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13088372"/>
        <c:axId val="95270836"/>
      </c:lineChart>
      <c:catAx>
        <c:axId val="1308837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95270836"/>
        <c:crosses val="autoZero"/>
        <c:auto val="1"/>
        <c:lblAlgn val="ctr"/>
        <c:lblOffset val="100"/>
        <c:noMultiLvlLbl val="0"/>
      </c:catAx>
      <c:valAx>
        <c:axId val="95270836"/>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13088372"/>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5336828"/>
        <c:axId val="98962573"/>
      </c:lineChart>
      <c:catAx>
        <c:axId val="533682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98962573"/>
        <c:crosses val="autoZero"/>
        <c:auto val="1"/>
        <c:lblAlgn val="ctr"/>
        <c:lblOffset val="100"/>
        <c:noMultiLvlLbl val="0"/>
      </c:catAx>
      <c:valAx>
        <c:axId val="98962573"/>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5336828"/>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40042535"/>
        <c:axId val="50033132"/>
      </c:barChart>
      <c:catAx>
        <c:axId val="40042535"/>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50033132"/>
        <c:crosses val="min"/>
        <c:auto val="1"/>
        <c:lblAlgn val="ctr"/>
        <c:lblOffset val="100"/>
        <c:noMultiLvlLbl val="0"/>
      </c:catAx>
      <c:valAx>
        <c:axId val="50033132"/>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40042535"/>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73071486"/>
        <c:axId val="2995500"/>
      </c:barChart>
      <c:catAx>
        <c:axId val="73071486"/>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2995500"/>
        <c:crosses val="min"/>
        <c:auto val="1"/>
        <c:lblAlgn val="ctr"/>
        <c:lblOffset val="100"/>
        <c:noMultiLvlLbl val="0"/>
      </c:catAx>
      <c:valAx>
        <c:axId val="2995500"/>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73071486"/>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8580818"/>
        <c:axId val="26587625"/>
      </c:lineChart>
      <c:catAx>
        <c:axId val="858081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26587625"/>
        <c:crosses val="autoZero"/>
        <c:auto val="1"/>
        <c:lblAlgn val="ctr"/>
        <c:lblOffset val="100"/>
        <c:noMultiLvlLbl val="0"/>
      </c:catAx>
      <c:valAx>
        <c:axId val="26587625"/>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8580818"/>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D5843D-FCED-4ABD-A36C-B9CF268CB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AFD4138D-BDAD-4669-B32F-BD213EF60C1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127B2AE6-87DA-42F1-B75D-2BC1ACFD725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66E7853-CD2E-4114-8549-75CDDF5ADC8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65A2E6E0-6451-4E68-A1DC-1332EA9E01B2}"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715CA41-53F3-41E4-AB9D-8D9941C01A2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83E9937A-15AF-436C-A0D1-8CD9B96024F1}"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11CD28FE-C06F-4A10-A182-0B4035C420B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48D30FE-AF95-4830-8CA0-35A56F600E4F}"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DAE1C-294D-41F5-AB91-C125B9218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85E18-0F06-452A-9165-E1CC2F38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A5C8F-0746-45F0-BBDB-D520A8CDA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0F387-D320-4274-AB53-952417C8C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EA415-231F-4C1D-A2DF-8712AD2DB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F9F11-D394-4AC7-AC12-D472B9247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B333B-F3CD-4673-ACA0-49DC4E0D2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3B6C6-0468-4A31-B218-F9A2D03B0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358CA-2E18-489A-93EE-59FB6C7CD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F0022-3895-4E73-9683-52C5D1AD2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2760-92F9-4CD2-A09D-18890CBED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55DD9-319F-4E8C-8692-559502DC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1321-F04C-4321-AC2B-675642DB0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D3566-0E7F-43A3-A220-DD46B53D3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E725F-BF65-4536-8D44-329898035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0AFDC-BDD3-4E51-A644-89AB02594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ECB5A-7D61-494D-B6DA-5806B635B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84147-D083-45EE-BCC1-4911A7D0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083A1-6712-4FD6-931B-71960DF3F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48E25-E13E-476C-B389-324D8B844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537B-D045-45AD-BFDF-417010D00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B724-FAD5-4B66-AFF7-4F30152D7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708C-F656-423A-88C3-7C8B7683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453C0-B81A-4AA6-BFC2-660BAD0C8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3748F7D-AEF4-481B-B681-7D88A37EF364}"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617907C-721F-48A6-999C-9BA94E33896A}"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535E843-AB36-4DCF-A16A-B36BAAAAC5E6}"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4C8DE5A-31FD-47B3-9CD5-84E388F5C570}"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ABBECB0E-41B9-4138-990A-62C7AD536C0C}"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960501C1-D902-42BC-9134-3862A74A2715}"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2811AF6-7A62-49F5-95BC-AF50CC967594}"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1F2B8F7B-DDBF-47A9-AF68-A0937C00D5AB}"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F907C6CE-40EA-45D0-970F-6ADAB504C4A8}"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