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A301604-C495-4941-8D0B-802EF8E6F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6C99E49-AD48-4473-919B-68C91927EB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C3A6819-7B62-4DEB-A6A9-85054AAE02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6B39C47-AAD0-40E9-B86A-6429C1E5A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40EB1-1161-43D1-BA56-246BEEE6C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816C-1D0B-4BF8-8221-2A42708A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A8EDA-2F47-4D87-B4C8-97F82E85C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9C3BF-AFA1-4253-B806-6CD63280C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EA8CD-74FE-4B33-9518-0FA11B468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915EE-E57E-4A2F-9834-AAC70B4A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E8C37-F4FB-4CA4-9F38-227D701AB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7FC39-463C-4EC3-AF9A-2D74AF0EE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7E41C-1770-4823-AC94-DBB5BB16F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C7BBC-E26D-4710-B583-A8EF5AB85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D56C4-AB55-4E32-961D-A30DBB1B9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A5378-9D54-4B76-9D29-C5EFB7B26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15CC-CD2B-4FD8-8071-6BF2F1C00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6B8A-FCD3-45CF-A4D4-E84020B55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E0193-271D-4DDB-B754-F079559A3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B330B-9529-401F-A40B-051E3F3C8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A08BC-BCCC-44B1-948C-80DD1630F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82B44-50D0-4459-B369-67892A2C0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1773D-7EC9-40C2-920B-72CE625E5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44456-F502-4989-8D0B-64BC8D09F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5F521-FBAD-44EE-BF3F-6AB1B2DF7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75099-7CB4-42DC-8EB6-19796D986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17F7-A02B-44CA-915A-972C0E33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409A9-4748-4445-8CF2-1BF6B1FCE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9DA09-6289-44D4-9275-D0E2AA84E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F3E77-EDBC-4B08-9302-4E52EEB52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66ACE-12F2-406B-928E-33FFC59F4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A7A31-D801-4583-A4C9-4668EE861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F6C81-4B30-4B19-B76F-381A253E0D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657422-1D26-4033-86C7-DA210DAE5A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D41034-06E7-4023-9F23-56772C0F3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A7CBE6-3FF0-476F-880A-058B6A3DD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9F18C-671D-45FD-84AD-B734EA471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8FA16-201F-40D1-9202-C8BFD9EF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DB198-F144-4FB9-83AC-87FE03D49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6DF32-4D6D-4AD0-94CA-D0198A266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5BEAB-C2A2-4991-A531-E3861F189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07173-9975-46A8-A800-6947EDE35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4A925-DB0B-444F-8DF5-C547EF30A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66847-D7AE-43C7-A89C-C3EE4ACE8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9B7E74-C886-4F9F-953E-164DDDC06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E97F73-371E-47FA-ADEA-BBA0E8B8B4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8596E-587C-49B7-998D-8A19E63413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0EDF-4074-4778-ACF6-DC1C6C474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3E105-3CB4-49E5-B29E-7E90F2A4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B0FDB-249B-482D-80F6-BB8373CA9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AB6FF-629A-4287-B900-952ECFC5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4FB1-2F32-4C99-B08E-6AE66B977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72D35EA-09A4-480E-BB2C-B0F23B04E488}"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687604C-657B-4B4A-BB29-E4300812E755}"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36CE46A-7390-4A6F-A928-752891C30C9D}"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1B9D511-33BF-40D8-8D19-B94E2A2010C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F3FD3B5-C6F6-40D8-B535-8A6D74EE9640}"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1A4FA95-855E-44B0-8FEA-5EB7A3A62FA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E00281CA-C72D-4816-82AA-D4DE6CA76C18}" type="datetime">
              <a:rPr b="1" lang="en-US" sz="900" spc="-1" strike="noStrike">
                <a:solidFill>
                  <a:srgbClr val="898989"/>
                </a:solidFill>
                <a:latin typeface="Arial"/>
              </a:rPr>
              <a:t>07/30/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0DEDBA99-A1E4-4F39-B9A0-28591E49959D}"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10412DF-2A04-4E20-BCD2-4A3B96BA7FB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4FB8C47-2501-439A-9D30-17CEE290517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F327F0E-ACF5-473F-A586-AAE2BB55841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306B47D-B20A-48BB-9EAF-AC7583F0F36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2F18F81-C2DE-4D95-B79B-4A8CF0B3086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02785D8-B5CB-404E-BFF5-FCAAFBE6161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C358925-1EAD-4BE7-B7E8-0928958CC82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