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12179300" cy="9132888"/>
  <p:notesSz cx="9305925" cy="70199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306000" cy="702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4033800" cy="351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268600" y="-360"/>
            <a:ext cx="4033800" cy="351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897280" y="525240"/>
            <a:ext cx="3511440" cy="2633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3240" rIns="9324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32040" y="3335040"/>
            <a:ext cx="74419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6669000"/>
            <a:ext cx="4033800" cy="3492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indent="0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268600" y="6669000"/>
            <a:ext cx="4033800" cy="3492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fld id="{FC3F05E1-F44B-468C-B340-8AC802A7CF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2897280" y="525600"/>
            <a:ext cx="3511440" cy="26334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32040" y="3335040"/>
            <a:ext cx="7441920" cy="31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5268960" y="6669000"/>
            <a:ext cx="403380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fld id="{D01666CC-B1C2-47EB-A9BF-DE376C73EB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2897280" y="525600"/>
            <a:ext cx="3511440" cy="26334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32040" y="3335040"/>
            <a:ext cx="7441920" cy="31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5268960" y="6669000"/>
            <a:ext cx="403380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fld id="{5C07667F-E750-41AF-B22A-AB4FBD5F7E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2897280" y="525600"/>
            <a:ext cx="3511440" cy="26334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32040" y="3335040"/>
            <a:ext cx="74419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LIRR to adopt Favorite Trips in release 2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ASK: 9/27/13 – MNR to validate accurate screenshots. – Completed – 09/27/13 - Modified slide to show the three landing pag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5268960" y="6669000"/>
            <a:ext cx="403380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fld id="{33B57959-D493-4647-9DD0-D8BE59126D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10076-F89C-4979-BA68-1499D05B2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120" y="364680"/>
            <a:ext cx="10960200" cy="15224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120" y="2131920"/>
            <a:ext cx="10960200" cy="28749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120" y="5280480"/>
            <a:ext cx="10960200" cy="28749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B67F5-1768-45AF-8038-A10484596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364680"/>
            <a:ext cx="10960200" cy="15224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31920"/>
            <a:ext cx="5348520" cy="28749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5480" y="2131920"/>
            <a:ext cx="5348520" cy="28749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120" y="5280480"/>
            <a:ext cx="5348520" cy="28749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5480" y="5280480"/>
            <a:ext cx="5348520" cy="28749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C0ABE-DA82-4F81-915B-0A8069C0B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364680"/>
            <a:ext cx="10960200" cy="15224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120" y="2131920"/>
            <a:ext cx="3529080" cy="28749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4960" y="2131920"/>
            <a:ext cx="3529080" cy="28749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0800" y="2131920"/>
            <a:ext cx="3529080" cy="28749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120" y="5280480"/>
            <a:ext cx="3529080" cy="28749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4960" y="5280480"/>
            <a:ext cx="3529080" cy="28749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0800" y="5280480"/>
            <a:ext cx="3529080" cy="28749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093A1-BEFE-4039-929D-49AD15A61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120" y="364680"/>
            <a:ext cx="10960200" cy="15224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120" y="2131920"/>
            <a:ext cx="10960200" cy="60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139D2-F7CF-4693-8166-B73D094F9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120" y="364680"/>
            <a:ext cx="10960200" cy="15224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120" y="2131920"/>
            <a:ext cx="10960200" cy="60278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8137F-6897-4A94-AAB7-6E26DDD17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120" y="364680"/>
            <a:ext cx="10960200" cy="15224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120" y="2131920"/>
            <a:ext cx="5348520" cy="60278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5480" y="2131920"/>
            <a:ext cx="5348520" cy="60278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E2D20-E33A-493D-A554-2A63884DC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364680"/>
            <a:ext cx="10960200" cy="15224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27649-E745-4C98-8312-C3904A22C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120" y="364680"/>
            <a:ext cx="10960200" cy="70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24"/>
              </a:spcBef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798E3-5D5F-4065-B80A-FA84E783B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364680"/>
            <a:ext cx="10960200" cy="15224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120" y="2131920"/>
            <a:ext cx="5348520" cy="28749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5480" y="2131920"/>
            <a:ext cx="5348520" cy="60278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120" y="5280480"/>
            <a:ext cx="5348520" cy="28749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EDC86-E6F5-49B1-9B6E-D84AB4189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364680"/>
            <a:ext cx="10960200" cy="15224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31920"/>
            <a:ext cx="5348520" cy="60278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5480" y="2131920"/>
            <a:ext cx="5348520" cy="28749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5480" y="5280480"/>
            <a:ext cx="5348520" cy="28749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8C897-61AE-4D4E-9051-C486E1669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120" y="364680"/>
            <a:ext cx="10960200" cy="15224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120" y="2131920"/>
            <a:ext cx="5348520" cy="28749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5480" y="2131920"/>
            <a:ext cx="5348520" cy="28749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120" y="5280480"/>
            <a:ext cx="10960200" cy="28749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D64A9-4EB5-4B10-A776-0B0036C09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364680"/>
            <a:ext cx="10960200" cy="15224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120" y="2131920"/>
            <a:ext cx="10960200" cy="60278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marL="455760" indent="-455760"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1" marL="988920" indent="-379440">
              <a:spcBef>
                <a:spcPts val="924"/>
              </a:spcBef>
              <a:buClr>
                <a:srgbClr val="000000"/>
              </a:buClr>
              <a:buFont typeface="Arial"/>
              <a:buChar char="–"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2" marL="1521000" indent="-303480"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3" marL="2130480" indent="-303120">
              <a:spcBef>
                <a:spcPts val="924"/>
              </a:spcBef>
              <a:buClr>
                <a:srgbClr val="000000"/>
              </a:buClr>
              <a:buFont typeface="Arial"/>
              <a:buChar char="–"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4" marL="2739960" indent="-303120">
              <a:spcBef>
                <a:spcPts val="924"/>
              </a:spcBef>
              <a:buClr>
                <a:srgbClr val="000000"/>
              </a:buClr>
              <a:buFont typeface="Arial"/>
              <a:buChar char="»"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5" marL="2739960" indent="-303120">
              <a:spcBef>
                <a:spcPts val="924"/>
              </a:spcBef>
              <a:buClr>
                <a:srgbClr val="000000"/>
              </a:buClr>
              <a:buFont typeface="Arial"/>
              <a:buChar char="»"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6" marL="2739960" indent="-303120">
              <a:spcBef>
                <a:spcPts val="924"/>
              </a:spcBef>
              <a:buClr>
                <a:srgbClr val="000000"/>
              </a:buClr>
              <a:buFont typeface="Arial"/>
              <a:buChar char="»"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720440" y="8465760"/>
            <a:ext cx="1730520" cy="4856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  <a:defRPr b="0" lang="en-US" sz="13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fld id="{1D250AC9-FCC5-4B83-9B83-BEA9B4F709D3}" type="datetime">
              <a:rPr b="0" lang="en-US" sz="1300" spc="-1" strike="noStrike">
                <a:solidFill>
                  <a:srgbClr val="898989"/>
                </a:solidFill>
                <a:latin typeface="Arial"/>
                <a:ea typeface="Arial"/>
              </a:rPr>
              <a:t>07/30/26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160880" y="8465760"/>
            <a:ext cx="3857760" cy="4856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  <a:defRPr b="0" lang="en-US" sz="13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1300" spc="-1" strike="noStrike">
                <a:solidFill>
                  <a:srgbClr val="898989"/>
                </a:solidFill>
                <a:latin typeface="Arial"/>
                <a:ea typeface="Arial"/>
              </a:rPr>
              <a:t>LIRR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727840" y="8465760"/>
            <a:ext cx="2841480" cy="4856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  <a:defRPr b="0" lang="en-US" sz="13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fld id="{3B8D8548-5CF7-4462-9288-29BE00565731}" type="slidenum">
              <a:rPr b="0" lang="en-US" sz="13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3" descr="pptbkgrds-title1.jpg"/>
          <p:cNvPicPr/>
          <p:nvPr/>
        </p:nvPicPr>
        <p:blipFill>
          <a:blip r:embed="rId1"/>
          <a:stretch/>
        </p:blipFill>
        <p:spPr>
          <a:xfrm>
            <a:off x="0" y="0"/>
            <a:ext cx="12179160" cy="91677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37840" y="646200"/>
            <a:ext cx="10023480" cy="46670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Arial"/>
              </a:rPr>
              <a:t>LIRR TrainTime  </a:t>
            </a:r>
            <a:br>
              <a:rPr sz="8000"/>
            </a:br>
            <a:r>
              <a:rPr b="1" lang="en-US" sz="8000" spc="-1" strike="noStrike">
                <a:solidFill>
                  <a:srgbClr val="ffffff"/>
                </a:solidFill>
                <a:latin typeface="Arial"/>
              </a:rPr>
              <a:t>LI Committee Presentation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827360" y="5176800"/>
            <a:ext cx="8524800" cy="233352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24"/>
              </a:spcBef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3700" spc="-1" strike="noStrike">
                <a:solidFill>
                  <a:srgbClr val="b9cde5"/>
                </a:solidFill>
                <a:latin typeface="Arial"/>
              </a:rPr>
              <a:t>1/24/2014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58680"/>
            <a:ext cx="10960200" cy="12477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Special Service Notices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lide Number Placeholder 4"/>
          <p:cNvSpPr/>
          <p:nvPr/>
        </p:nvSpPr>
        <p:spPr>
          <a:xfrm>
            <a:off x="8728200" y="8466120"/>
            <a:ext cx="28414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fld id="{BF609A0F-26EE-4862-9AC8-555FE6B2510F}" type="slidenum">
              <a:rPr b="0" lang="en-US" sz="13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12" descr="C:\Users\dbrulha\Desktop\untitled folder\iOS Simulator Screen shot Nov 20, 2013 2.04.27 PM.png"/>
          <p:cNvPicPr/>
          <p:nvPr/>
        </p:nvPicPr>
        <p:blipFill>
          <a:blip r:embed="rId1"/>
          <a:stretch/>
        </p:blipFill>
        <p:spPr>
          <a:xfrm>
            <a:off x="4478400" y="1306440"/>
            <a:ext cx="3200400" cy="568008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sp>
        <p:nvSpPr>
          <p:cNvPr id="112" name="Footer Placeholder 3"/>
          <p:cNvSpPr/>
          <p:nvPr/>
        </p:nvSpPr>
        <p:spPr>
          <a:xfrm>
            <a:off x="4160880" y="8466120"/>
            <a:ext cx="38577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1300" spc="-1" strike="noStrike">
                <a:solidFill>
                  <a:srgbClr val="898989"/>
                </a:solidFill>
                <a:latin typeface="Arial"/>
                <a:ea typeface="Arial"/>
              </a:rPr>
              <a:t>LIRR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58680"/>
            <a:ext cx="10960200" cy="12477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Social Media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lide Number Placeholder 4"/>
          <p:cNvSpPr/>
          <p:nvPr/>
        </p:nvSpPr>
        <p:spPr>
          <a:xfrm>
            <a:off x="8728200" y="8466120"/>
            <a:ext cx="28414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fld id="{CEDF45C7-84EF-4F89-A18B-C63DE45170C5}" type="slidenum">
              <a:rPr b="0" lang="en-US" sz="13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Picture 9" descr="C:\Users\dbrulha\Desktop\untitled folder\iOS Simulator Screen shot Nov 20, 2013 2.04.31 PM.png"/>
          <p:cNvPicPr/>
          <p:nvPr/>
        </p:nvPicPr>
        <p:blipFill>
          <a:blip r:embed="rId1"/>
          <a:stretch/>
        </p:blipFill>
        <p:spPr>
          <a:xfrm>
            <a:off x="4484520" y="1306440"/>
            <a:ext cx="3200400" cy="568008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sp>
        <p:nvSpPr>
          <p:cNvPr id="116" name="Footer Placeholder 3"/>
          <p:cNvSpPr/>
          <p:nvPr/>
        </p:nvSpPr>
        <p:spPr>
          <a:xfrm>
            <a:off x="4160880" y="8466120"/>
            <a:ext cx="38577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1300" spc="-1" strike="noStrike">
                <a:solidFill>
                  <a:srgbClr val="898989"/>
                </a:solidFill>
                <a:latin typeface="Arial"/>
                <a:ea typeface="Arial"/>
              </a:rPr>
              <a:t>LIRR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58680"/>
            <a:ext cx="10960200" cy="12477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More Options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lide Number Placeholder 4"/>
          <p:cNvSpPr/>
          <p:nvPr/>
        </p:nvSpPr>
        <p:spPr>
          <a:xfrm>
            <a:off x="8728200" y="8466120"/>
            <a:ext cx="28414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fld id="{CA493147-0228-41EA-A49D-9F43E7FB1592}" type="slidenum">
              <a:rPr b="0" lang="en-US" sz="13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Picture 2" descr="C:\Users\dbrulha\Desktop\untitled folder\iOS Simulator Screen shot Nov 20, 2013 2.14.47 PM.png"/>
          <p:cNvPicPr/>
          <p:nvPr/>
        </p:nvPicPr>
        <p:blipFill>
          <a:blip r:embed="rId1"/>
          <a:stretch/>
        </p:blipFill>
        <p:spPr>
          <a:xfrm>
            <a:off x="4484520" y="1306440"/>
            <a:ext cx="3200400" cy="568008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sp>
        <p:nvSpPr>
          <p:cNvPr id="120" name="Footer Placeholder 3"/>
          <p:cNvSpPr/>
          <p:nvPr/>
        </p:nvSpPr>
        <p:spPr>
          <a:xfrm>
            <a:off x="4160880" y="8466120"/>
            <a:ext cx="38577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1300" spc="-1" strike="noStrike">
                <a:solidFill>
                  <a:srgbClr val="898989"/>
                </a:solidFill>
                <a:latin typeface="Arial"/>
                <a:ea typeface="Arial"/>
              </a:rPr>
              <a:t>LIRR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09120" y="364680"/>
            <a:ext cx="10960200" cy="15224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09120" y="2131920"/>
            <a:ext cx="10960200" cy="60278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marL="455760" indent="-455760"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Future enhancements based on feedback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Footer Placeholder 3"/>
          <p:cNvSpPr/>
          <p:nvPr/>
        </p:nvSpPr>
        <p:spPr>
          <a:xfrm>
            <a:off x="4160880" y="8466120"/>
            <a:ext cx="38577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1300" spc="-1" strike="noStrike">
                <a:solidFill>
                  <a:srgbClr val="898989"/>
                </a:solidFill>
                <a:latin typeface="Arial"/>
                <a:ea typeface="Arial"/>
              </a:rPr>
              <a:t>LIRR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Slide Number Placeholder 4"/>
          <p:cNvSpPr/>
          <p:nvPr/>
        </p:nvSpPr>
        <p:spPr>
          <a:xfrm>
            <a:off x="8728200" y="8466120"/>
            <a:ext cx="28414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fld id="{E70B36AA-986F-45D0-9F1A-EEEC7DEC4AED}" type="slidenum">
              <a:rPr b="0" lang="en-US" sz="13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120" y="58680"/>
            <a:ext cx="10960200" cy="12477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Loading Screen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Footer Placeholder 3"/>
          <p:cNvSpPr/>
          <p:nvPr/>
        </p:nvSpPr>
        <p:spPr>
          <a:xfrm>
            <a:off x="4160880" y="8466120"/>
            <a:ext cx="38577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1300" spc="-1" strike="noStrike">
                <a:solidFill>
                  <a:srgbClr val="898989"/>
                </a:solidFill>
                <a:latin typeface="Arial"/>
                <a:ea typeface="Arial"/>
              </a:rPr>
              <a:t>LIRR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4"/>
          <p:cNvSpPr/>
          <p:nvPr/>
        </p:nvSpPr>
        <p:spPr>
          <a:xfrm>
            <a:off x="8728200" y="8466120"/>
            <a:ext cx="28414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fld id="{7C68EF5C-F312-4AA4-BE49-C7951189A96C}" type="slidenum">
              <a:rPr b="0" lang="en-US" sz="13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11" descr="C:\Users\dbrulha\Desktop\untitled folder\iOS Simulator Screen shot Nov 20, 2013 2.00.53 PM.png"/>
          <p:cNvPicPr/>
          <p:nvPr/>
        </p:nvPicPr>
        <p:blipFill>
          <a:blip r:embed="rId1"/>
          <a:stretch/>
        </p:blipFill>
        <p:spPr>
          <a:xfrm>
            <a:off x="4484520" y="1285920"/>
            <a:ext cx="3200400" cy="568152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58680"/>
            <a:ext cx="10960200" cy="12477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Navigation Main Menu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Footer Placeholder 3"/>
          <p:cNvSpPr/>
          <p:nvPr/>
        </p:nvSpPr>
        <p:spPr>
          <a:xfrm>
            <a:off x="4160880" y="8466120"/>
            <a:ext cx="38577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1300" spc="-1" strike="noStrike">
                <a:solidFill>
                  <a:srgbClr val="898989"/>
                </a:solidFill>
                <a:latin typeface="Arial"/>
                <a:ea typeface="Arial"/>
              </a:rPr>
              <a:t>LIRR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4"/>
          <p:cNvSpPr/>
          <p:nvPr/>
        </p:nvSpPr>
        <p:spPr>
          <a:xfrm>
            <a:off x="8728200" y="8466120"/>
            <a:ext cx="28414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fld id="{E60836A5-FD20-45BA-B436-53F52073C9D5}" type="slidenum">
              <a:rPr b="0" lang="en-US" sz="13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12" descr="C:\Users\dbrulha\Desktop\untitled folder\iOS Simulator Screen shot Nov 20, 2013 2.00.04 PM.png"/>
          <p:cNvPicPr/>
          <p:nvPr/>
        </p:nvPicPr>
        <p:blipFill>
          <a:blip r:embed="rId1"/>
          <a:stretch/>
        </p:blipFill>
        <p:spPr>
          <a:xfrm>
            <a:off x="6654960" y="1305000"/>
            <a:ext cx="3200400" cy="568152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59" name="Picture 13" descr="C:\Users\dbrulha\Desktop\untitled folder\iOS Simulator Screen shot Nov 20, 2013 2.00.01 PM.png"/>
          <p:cNvPicPr/>
          <p:nvPr/>
        </p:nvPicPr>
        <p:blipFill>
          <a:blip r:embed="rId2"/>
          <a:stretch/>
        </p:blipFill>
        <p:spPr>
          <a:xfrm>
            <a:off x="1792440" y="1305000"/>
            <a:ext cx="3200400" cy="568152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sp>
        <p:nvSpPr>
          <p:cNvPr id="60" name="TextBox 1"/>
          <p:cNvSpPr/>
          <p:nvPr/>
        </p:nvSpPr>
        <p:spPr>
          <a:xfrm>
            <a:off x="2805480" y="6994440"/>
            <a:ext cx="11736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  <a:ea typeface="Tahoma"/>
              </a:rPr>
              <a:t>Collaps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1"/>
          <p:cNvSpPr/>
          <p:nvPr/>
        </p:nvSpPr>
        <p:spPr>
          <a:xfrm>
            <a:off x="7657920" y="6989760"/>
            <a:ext cx="1191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  <a:ea typeface="Arial"/>
              </a:rPr>
              <a:t>Expand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58680"/>
            <a:ext cx="10960200" cy="12477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Trip Search &amp; Fares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Footer Placeholder 3"/>
          <p:cNvSpPr/>
          <p:nvPr/>
        </p:nvSpPr>
        <p:spPr>
          <a:xfrm>
            <a:off x="4160880" y="8466120"/>
            <a:ext cx="38577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1300" spc="-1" strike="noStrike">
                <a:solidFill>
                  <a:srgbClr val="898989"/>
                </a:solidFill>
                <a:latin typeface="Arial"/>
                <a:ea typeface="Arial"/>
              </a:rPr>
              <a:t>LIRR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lide Number Placeholder 4"/>
          <p:cNvSpPr/>
          <p:nvPr/>
        </p:nvSpPr>
        <p:spPr>
          <a:xfrm>
            <a:off x="8728200" y="8466120"/>
            <a:ext cx="28414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fld id="{0FBE10D3-8C57-4464-B97D-C94D8BB4E9A3}" type="slidenum">
              <a:rPr b="0" lang="en-US" sz="13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Box 1"/>
          <p:cNvSpPr/>
          <p:nvPr/>
        </p:nvSpPr>
        <p:spPr>
          <a:xfrm>
            <a:off x="2278080" y="6989760"/>
            <a:ext cx="2228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  <a:ea typeface="Arial"/>
              </a:rPr>
              <a:t>Trip Result Summa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1"/>
          <p:cNvSpPr/>
          <p:nvPr/>
        </p:nvSpPr>
        <p:spPr>
          <a:xfrm>
            <a:off x="7231320" y="6989760"/>
            <a:ext cx="2046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  <a:ea typeface="Arial"/>
              </a:rPr>
              <a:t>Date &amp; Time Pick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13" descr="C:\Users\dbrulha\Desktop\untitled folder\iOS Simulator Screen shot Nov 20, 2013 2.02.29 PM.png"/>
          <p:cNvPicPr/>
          <p:nvPr/>
        </p:nvPicPr>
        <p:blipFill>
          <a:blip r:embed="rId1"/>
          <a:stretch/>
        </p:blipFill>
        <p:spPr>
          <a:xfrm>
            <a:off x="1792440" y="1303200"/>
            <a:ext cx="3200400" cy="568188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68" name="Picture 15" descr="C:\Users\dbrulha\Desktop\untitled folder\iOS Simulator Screen shot Nov 20, 2013 2.02.35 PM.png"/>
          <p:cNvPicPr/>
          <p:nvPr/>
        </p:nvPicPr>
        <p:blipFill>
          <a:blip r:embed="rId2"/>
          <a:stretch/>
        </p:blipFill>
        <p:spPr>
          <a:xfrm>
            <a:off x="6654960" y="1303200"/>
            <a:ext cx="3200400" cy="568008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58680"/>
            <a:ext cx="10960200" cy="12477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Trip Result Details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Footer Placeholder 3"/>
          <p:cNvSpPr/>
          <p:nvPr/>
        </p:nvSpPr>
        <p:spPr>
          <a:xfrm>
            <a:off x="4160880" y="8466120"/>
            <a:ext cx="38577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1300" spc="-1" strike="noStrike">
                <a:solidFill>
                  <a:srgbClr val="898989"/>
                </a:solidFill>
                <a:latin typeface="Arial"/>
                <a:ea typeface="Arial"/>
              </a:rPr>
              <a:t>LIRR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Slide Number Placeholder 4"/>
          <p:cNvSpPr/>
          <p:nvPr/>
        </p:nvSpPr>
        <p:spPr>
          <a:xfrm>
            <a:off x="8728200" y="8466120"/>
            <a:ext cx="28414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fld id="{BEA8A86C-AE96-48D0-AF46-E923E9A8859E}" type="slidenum">
              <a:rPr b="0" lang="en-US" sz="13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>
            <a:off x="1917720" y="1287360"/>
            <a:ext cx="2787480" cy="708660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sp>
        <p:nvSpPr>
          <p:cNvPr id="73" name="Right Arrow 13"/>
          <p:cNvSpPr/>
          <p:nvPr/>
        </p:nvSpPr>
        <p:spPr>
          <a:xfrm rot="9766800">
            <a:off x="4493520" y="7520040"/>
            <a:ext cx="1522440" cy="581040"/>
          </a:xfrm>
          <a:prstGeom prst="rightArrow">
            <a:avLst>
              <a:gd name="adj1" fmla="val 36824"/>
              <a:gd name="adj2" fmla="val 61599"/>
            </a:avLst>
          </a:prstGeom>
          <a:gradFill rotWithShape="0">
            <a:gsLst>
              <a:gs pos="0">
                <a:srgbClr val="3f80cd"/>
              </a:gs>
              <a:gs pos="100000">
                <a:srgbClr val="9bc1ff"/>
              </a:gs>
            </a:gsLst>
            <a:lin ang="6432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Box 1"/>
          <p:cNvSpPr/>
          <p:nvPr/>
        </p:nvSpPr>
        <p:spPr>
          <a:xfrm>
            <a:off x="6357240" y="7283520"/>
            <a:ext cx="21794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  <a:ea typeface="Arial"/>
              </a:rPr>
              <a:t>Explanation of Far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3" descr="G:\iOS Simulator Screen shot Nov 20, 2013 2.50.22 PM.png"/>
          <p:cNvPicPr/>
          <p:nvPr/>
        </p:nvPicPr>
        <p:blipFill>
          <a:blip r:embed="rId2"/>
          <a:stretch/>
        </p:blipFill>
        <p:spPr>
          <a:xfrm>
            <a:off x="5846760" y="1596960"/>
            <a:ext cx="3200400" cy="568188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128520"/>
            <a:ext cx="10960200" cy="109872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Favorite Stations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12" descr="C:\Users\dbrulha\Desktop\untitled folder\iOS Simulator Screen shot Nov 20, 2013 2.03.24 PM.png"/>
          <p:cNvPicPr/>
          <p:nvPr/>
        </p:nvPicPr>
        <p:blipFill>
          <a:blip r:embed="rId1"/>
          <a:stretch/>
        </p:blipFill>
        <p:spPr>
          <a:xfrm>
            <a:off x="4651200" y="1450800"/>
            <a:ext cx="3200400" cy="568008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78" name="Picture 14" descr="C:\Users\dbrulha\Desktop\untitled folder\iOS Simulator Screen shot Nov 20, 2013 2.14.33 PM.png"/>
          <p:cNvPicPr/>
          <p:nvPr/>
        </p:nvPicPr>
        <p:blipFill>
          <a:blip r:embed="rId2"/>
          <a:stretch/>
        </p:blipFill>
        <p:spPr>
          <a:xfrm>
            <a:off x="8404200" y="1450800"/>
            <a:ext cx="3200400" cy="568008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79" name="Picture 15" descr="C:\Users\dbrulha\Desktop\untitled folder\iOS Simulator Screen shot Nov 20, 2013 2.31.50 PM.png"/>
          <p:cNvPicPr/>
          <p:nvPr/>
        </p:nvPicPr>
        <p:blipFill>
          <a:blip r:embed="rId3"/>
          <a:stretch/>
        </p:blipFill>
        <p:spPr>
          <a:xfrm>
            <a:off x="957240" y="1450800"/>
            <a:ext cx="3200400" cy="568008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sp>
        <p:nvSpPr>
          <p:cNvPr id="80" name="TextBox 1"/>
          <p:cNvSpPr/>
          <p:nvPr/>
        </p:nvSpPr>
        <p:spPr>
          <a:xfrm>
            <a:off x="1331280" y="7130880"/>
            <a:ext cx="2452320" cy="6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  <a:ea typeface="Arial"/>
              </a:rPr>
              <a:t>The ‘Favorites’ tab in al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  <a:ea typeface="Arial"/>
              </a:rPr>
              <a:t>Station Picker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TextBox 1"/>
          <p:cNvSpPr/>
          <p:nvPr/>
        </p:nvSpPr>
        <p:spPr>
          <a:xfrm>
            <a:off x="5069520" y="7130880"/>
            <a:ext cx="2364120" cy="6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  <a:ea typeface="Arial"/>
              </a:rPr>
              <a:t>Stars allow ability to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  <a:ea typeface="Arial"/>
              </a:rPr>
              <a:t>add/remove a favorit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Box 1"/>
          <p:cNvSpPr/>
          <p:nvPr/>
        </p:nvSpPr>
        <p:spPr>
          <a:xfrm>
            <a:off x="8696520" y="7130880"/>
            <a:ext cx="2613960" cy="6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  <a:ea typeface="Arial"/>
              </a:rPr>
              <a:t>Favorite a station from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  <a:ea typeface="Arial"/>
              </a:rPr>
              <a:t>station information p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Right Arrow 1"/>
          <p:cNvSpPr/>
          <p:nvPr/>
        </p:nvSpPr>
        <p:spPr>
          <a:xfrm rot="1884600">
            <a:off x="336240" y="2039400"/>
            <a:ext cx="987480" cy="579600"/>
          </a:xfrm>
          <a:prstGeom prst="rightArrow">
            <a:avLst>
              <a:gd name="adj1" fmla="val 36824"/>
              <a:gd name="adj2" fmla="val 61578"/>
            </a:avLst>
          </a:prstGeom>
          <a:gradFill rotWithShape="0">
            <a:gsLst>
              <a:gs pos="0">
                <a:srgbClr val="3f80cd"/>
              </a:gs>
              <a:gs pos="100000">
                <a:srgbClr val="9bc1ff"/>
              </a:gs>
            </a:gsLst>
            <a:lin ang="14316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Right Arrow 19"/>
          <p:cNvSpPr/>
          <p:nvPr/>
        </p:nvSpPr>
        <p:spPr>
          <a:xfrm rot="1884600">
            <a:off x="6570360" y="4462560"/>
            <a:ext cx="987480" cy="581040"/>
          </a:xfrm>
          <a:prstGeom prst="rightArrow">
            <a:avLst>
              <a:gd name="adj1" fmla="val 36824"/>
              <a:gd name="adj2" fmla="val 61599"/>
            </a:avLst>
          </a:prstGeom>
          <a:gradFill rotWithShape="0">
            <a:gsLst>
              <a:gs pos="0">
                <a:srgbClr val="3f80cd"/>
              </a:gs>
              <a:gs pos="100000">
                <a:srgbClr val="9bc1ff"/>
              </a:gs>
            </a:gsLst>
            <a:lin ang="14316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Right Arrow 20"/>
          <p:cNvSpPr/>
          <p:nvPr/>
        </p:nvSpPr>
        <p:spPr>
          <a:xfrm rot="1884600">
            <a:off x="10231200" y="1247400"/>
            <a:ext cx="987480" cy="579600"/>
          </a:xfrm>
          <a:prstGeom prst="rightArrow">
            <a:avLst>
              <a:gd name="adj1" fmla="val 36824"/>
              <a:gd name="adj2" fmla="val 61578"/>
            </a:avLst>
          </a:prstGeom>
          <a:gradFill rotWithShape="0">
            <a:gsLst>
              <a:gs pos="0">
                <a:srgbClr val="3f80cd"/>
              </a:gs>
              <a:gs pos="100000">
                <a:srgbClr val="9bc1ff"/>
              </a:gs>
            </a:gsLst>
            <a:lin ang="14316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Right Arrow 21"/>
          <p:cNvSpPr/>
          <p:nvPr/>
        </p:nvSpPr>
        <p:spPr>
          <a:xfrm rot="1884600">
            <a:off x="6570360" y="3170160"/>
            <a:ext cx="987480" cy="581040"/>
          </a:xfrm>
          <a:prstGeom prst="rightArrow">
            <a:avLst>
              <a:gd name="adj1" fmla="val 36824"/>
              <a:gd name="adj2" fmla="val 61599"/>
            </a:avLst>
          </a:prstGeom>
          <a:gradFill rotWithShape="0">
            <a:gsLst>
              <a:gs pos="0">
                <a:srgbClr val="3f80cd"/>
              </a:gs>
              <a:gs pos="100000">
                <a:srgbClr val="9bc1ff"/>
              </a:gs>
            </a:gsLst>
            <a:lin ang="14316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3"/>
          <p:cNvSpPr/>
          <p:nvPr/>
        </p:nvSpPr>
        <p:spPr>
          <a:xfrm>
            <a:off x="4160880" y="8466120"/>
            <a:ext cx="38577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1300" spc="-1" strike="noStrike">
                <a:solidFill>
                  <a:srgbClr val="898989"/>
                </a:solidFill>
                <a:latin typeface="Arial"/>
                <a:ea typeface="Arial"/>
              </a:rPr>
              <a:t>LIRR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Slide Number Placeholder 4"/>
          <p:cNvSpPr/>
          <p:nvPr/>
        </p:nvSpPr>
        <p:spPr>
          <a:xfrm>
            <a:off x="8728200" y="8466120"/>
            <a:ext cx="28414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fld id="{2DAE111C-336B-43E8-ACF8-EEFD52E20027}" type="slidenum">
              <a:rPr b="0" lang="en-US" sz="13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58680"/>
            <a:ext cx="10960200" cy="12477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Station Information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lide Number Placeholder 4"/>
          <p:cNvSpPr/>
          <p:nvPr/>
        </p:nvSpPr>
        <p:spPr>
          <a:xfrm>
            <a:off x="8728200" y="8466120"/>
            <a:ext cx="28414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fld id="{9ECF5CFF-1606-4D76-A916-072721B9A7B8}" type="slidenum">
              <a:rPr b="0" lang="en-US" sz="13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1747800" y="1374840"/>
            <a:ext cx="3200400" cy="605484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92" name="Picture 3" descr=""/>
          <p:cNvPicPr/>
          <p:nvPr/>
        </p:nvPicPr>
        <p:blipFill>
          <a:blip r:embed="rId2"/>
          <a:stretch/>
        </p:blipFill>
        <p:spPr>
          <a:xfrm>
            <a:off x="6610320" y="2022480"/>
            <a:ext cx="3200400" cy="582444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cxnSp>
        <p:nvCxnSpPr>
          <p:cNvPr id="93" name="Curved Connector 2"/>
          <p:cNvCxnSpPr>
            <a:stCxn id="91" idx="2"/>
            <a:endCxn id="92" idx="0"/>
          </p:cNvCxnSpPr>
          <p:nvPr/>
        </p:nvCxnSpPr>
        <p:spPr>
          <a:xfrm flipH="1" flipV="1" rot="5400000">
            <a:off x="3074400" y="2294280"/>
            <a:ext cx="5407920" cy="4863240"/>
          </a:xfrm>
          <a:prstGeom prst="curvedConnector5">
            <a:avLst>
              <a:gd name="adj1" fmla="val -13028"/>
              <a:gd name="adj2" fmla="val 25000"/>
              <a:gd name="adj3" fmla="val -13028"/>
            </a:avLst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94" name="Footer Placeholder 3"/>
          <p:cNvSpPr/>
          <p:nvPr/>
        </p:nvSpPr>
        <p:spPr>
          <a:xfrm>
            <a:off x="4160880" y="8466120"/>
            <a:ext cx="38577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1300" spc="-1" strike="noStrike">
                <a:solidFill>
                  <a:srgbClr val="898989"/>
                </a:solidFill>
                <a:latin typeface="Arial"/>
                <a:ea typeface="Arial"/>
              </a:rPr>
              <a:t>LIRR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120" y="58680"/>
            <a:ext cx="10960200" cy="12477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Service Status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lide Number Placeholder 4"/>
          <p:cNvSpPr/>
          <p:nvPr/>
        </p:nvSpPr>
        <p:spPr>
          <a:xfrm>
            <a:off x="8728200" y="8466120"/>
            <a:ext cx="28414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fld id="{9A0357DA-6127-4721-8CA7-CAD49ED98326}" type="slidenum">
              <a:rPr b="0" lang="en-US" sz="13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12" descr="C:\Users\dbrulha\Desktop\untitled folder\iOS Simulator Screen shot Nov 20, 2013 2.04.14 PM.png"/>
          <p:cNvPicPr/>
          <p:nvPr/>
        </p:nvPicPr>
        <p:blipFill>
          <a:blip r:embed="rId1"/>
          <a:stretch/>
        </p:blipFill>
        <p:spPr>
          <a:xfrm>
            <a:off x="6654960" y="1303200"/>
            <a:ext cx="3200400" cy="568008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98" name="Picture 13" descr="C:\Users\dbrulha\Desktop\untitled folder\iOS Simulator Screen shot Nov 20, 2013 2.04.12 PM.png"/>
          <p:cNvPicPr/>
          <p:nvPr/>
        </p:nvPicPr>
        <p:blipFill>
          <a:blip r:embed="rId2"/>
          <a:stretch/>
        </p:blipFill>
        <p:spPr>
          <a:xfrm>
            <a:off x="1792440" y="1303200"/>
            <a:ext cx="3200400" cy="568008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sp>
        <p:nvSpPr>
          <p:cNvPr id="99" name="TextBox 1"/>
          <p:cNvSpPr/>
          <p:nvPr/>
        </p:nvSpPr>
        <p:spPr>
          <a:xfrm>
            <a:off x="2812320" y="6989760"/>
            <a:ext cx="1159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  <a:ea typeface="Arial"/>
              </a:rPr>
              <a:t>Summa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extBox 1"/>
          <p:cNvSpPr/>
          <p:nvPr/>
        </p:nvSpPr>
        <p:spPr>
          <a:xfrm>
            <a:off x="7856280" y="6989760"/>
            <a:ext cx="797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  <a:ea typeface="Arial"/>
              </a:rPr>
              <a:t>Detai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Footer Placeholder 3"/>
          <p:cNvSpPr/>
          <p:nvPr/>
        </p:nvSpPr>
        <p:spPr>
          <a:xfrm>
            <a:off x="4160880" y="8466120"/>
            <a:ext cx="38577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1300" spc="-1" strike="noStrike">
                <a:solidFill>
                  <a:srgbClr val="898989"/>
                </a:solidFill>
                <a:latin typeface="Arial"/>
                <a:ea typeface="Arial"/>
              </a:rPr>
              <a:t>LIRR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120" y="58680"/>
            <a:ext cx="10960200" cy="12477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ustomer Alerts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lide Number Placeholder 4"/>
          <p:cNvSpPr/>
          <p:nvPr/>
        </p:nvSpPr>
        <p:spPr>
          <a:xfrm>
            <a:off x="8728200" y="8466120"/>
            <a:ext cx="28414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fld id="{37FF3B7B-8D6D-4CE6-9EA3-3666F1C4908B}" type="slidenum">
              <a:rPr b="0" lang="en-US" sz="13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9" descr="C:\Users\dbrulha\Desktop\untitled folder\iOS Simulator Screen shot Nov 20, 2013 2.04.20 PM.png"/>
          <p:cNvPicPr/>
          <p:nvPr/>
        </p:nvPicPr>
        <p:blipFill>
          <a:blip r:embed="rId1"/>
          <a:stretch/>
        </p:blipFill>
        <p:spPr>
          <a:xfrm>
            <a:off x="1792440" y="1306440"/>
            <a:ext cx="3200400" cy="568008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105" name="Picture 10" descr="C:\Users\dbrulha\Desktop\untitled folder\iOS Simulator Screen shot Nov 20, 2013 2.04.22 PM.png"/>
          <p:cNvPicPr/>
          <p:nvPr/>
        </p:nvPicPr>
        <p:blipFill>
          <a:blip r:embed="rId2"/>
          <a:stretch/>
        </p:blipFill>
        <p:spPr>
          <a:xfrm>
            <a:off x="6654960" y="1306440"/>
            <a:ext cx="3200400" cy="568008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sp>
        <p:nvSpPr>
          <p:cNvPr id="106" name="TextBox 1"/>
          <p:cNvSpPr/>
          <p:nvPr/>
        </p:nvSpPr>
        <p:spPr>
          <a:xfrm>
            <a:off x="2812320" y="6989760"/>
            <a:ext cx="1159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  <a:ea typeface="Arial"/>
              </a:rPr>
              <a:t>Summa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TextBox 1"/>
          <p:cNvSpPr/>
          <p:nvPr/>
        </p:nvSpPr>
        <p:spPr>
          <a:xfrm>
            <a:off x="7856280" y="6989760"/>
            <a:ext cx="797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  <a:ea typeface="Arial"/>
              </a:rPr>
              <a:t>Detai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Footer Placeholder 3"/>
          <p:cNvSpPr/>
          <p:nvPr/>
        </p:nvSpPr>
        <p:spPr>
          <a:xfrm>
            <a:off x="4160880" y="8466120"/>
            <a:ext cx="38577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1300" spc="-1" strike="noStrike">
                <a:solidFill>
                  <a:srgbClr val="898989"/>
                </a:solidFill>
                <a:latin typeface="Arial"/>
                <a:ea typeface="Arial"/>
              </a:rPr>
              <a:t>LIRR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7T21:28:48Z</dcterms:created>
  <dc:creator>dbrulha@lirr.org</dc:creator>
  <dc:description/>
  <dc:language>en-US</dc:language>
  <cp:lastModifiedBy>lirr</cp:lastModifiedBy>
  <cp:lastPrinted>2013-09-27T19:11:38Z</cp:lastPrinted>
  <dcterms:modified xsi:type="dcterms:W3CDTF">2014-01-24T21:07:28Z</dcterms:modified>
  <cp:revision>161</cp:revision>
  <dc:subject/>
  <dc:title>PowerPoint Presentation</dc:title>
</cp:coreProperties>
</file>