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9BD7C-2DDA-4625-8A6C-0A6F33EBC2F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CE9FC-DD12-43FA-96EE-46C9A56AD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CAF4D-6902-4DC4-9499-DD23DD38C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B2F70-95A6-4C61-8A71-F2BD84E891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4B925-0217-4AEA-9BF0-1AED24FBFC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C5EA3-93F7-4751-A2A6-C6CCE316A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4BC7-7785-4A68-8555-5E362924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6C196-4D83-4A2A-9234-F8BE76213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E51E61-454C-4903-9896-66343838D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0BADD-16E7-4652-B952-912EA0B1A3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DD6F9-28BE-4C33-9EB5-F4CDE67B7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E41CA-AE98-4FEC-9458-CFB687095B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A13DB-711B-4486-94F8-8C2D22224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9FF4D-B753-493D-9A53-752ED592B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4155EA-8945-4D49-9CEA-241CA0CEE8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50D87C-28A1-40D7-A165-60A7AFFCD7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061434-4489-459C-81A2-1E053B2457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50E69-D7C3-4EAF-8218-17DC1E51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FC0593-AEA4-4906-B0C8-089FF9BC4C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8A1625-5178-425B-A2B7-5EB0EEAAA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03B856-7924-4820-9856-0656AADBFB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2C18B0-C466-4DBE-A7B0-5508491AD1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0C5A53-AA9F-46B2-ACF5-2E61E74648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7EBA56-219C-4075-B036-7DD72A1613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88DF81-27E6-49E2-8B7C-E119FB1A8E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F52A9C-0B07-4D6F-8FA2-9328F80D98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11AB68-8E5C-49D8-891C-BD39A41F6A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60CC52-35F0-4FAE-B78E-94483B9D5C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F5DE3-953E-4E67-8B64-CB0B562BC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BC40B6-F777-40BE-8FD5-504D130C90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C8D517-0B5A-4BFE-A61F-F1C0221CDB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23E35B-827E-4864-BF35-F411BC14C7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56AEFB-3CC2-4B0B-A1EB-2C5E8BF44F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27520A-4C4B-4259-89FA-73331DCBBE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EF1CDA-B748-4FDA-A57F-8B41DB95C0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592562-DE8B-41C4-B1E2-EA02A7254B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91F663-AFAB-4830-98A2-88C0628D3C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921333-2E10-4B72-B5FB-1377F13B1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AAF097-DC82-4927-A8AC-7FE6EE37F3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A5315-FD83-4F35-B2F0-3A4C1845F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99D30A-1669-42A8-9A25-234C1CB3DB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072852-4AEA-414E-A5D9-5889E7F436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210D9B-2366-4724-8A6A-67B43FE9C4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05DDED-8678-41DE-BFC0-CBBD5E9616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18F4AA-B601-4AD2-A826-C57F42C56B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26A391-505B-4E31-B45A-E687FF5022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508310-7F46-482E-934C-B2AA7D6CF1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52616C-D6A7-4510-9671-88CF6D0E83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5BEC11-71DD-48B4-914D-CA15B5B80E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750B24-E1F3-413C-A23A-2ED9EC176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8BF55-95D2-49D9-9A4E-43596CC7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AAC1E4-23E2-42D9-BBC0-6803824A9C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4ECC38-80A8-43FA-BB9D-56CA9467A4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DBCDAB-DF90-4E45-9CD8-C7BE383611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01B979-9B0B-490E-9365-1BB53EF463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30E836-C1BA-4CA4-A8BE-5C1175E050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E8FC7-2222-45E3-9ED2-FDBB3EED6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2DB60-BF13-4065-8B66-ABE3EBB1C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77AFD-7B85-4A15-8D34-8B58533D4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4C4FD-0F6B-4406-9631-5B8709C16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C39F6-2F96-48FF-BCE8-82CD47D3C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82A88-A458-4651-B03D-D0927DC36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D901F-55D5-4FB4-8038-F920ACC8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AA7B4-FA66-4F83-9B6E-24F1B5341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978E4-CE2F-4713-AA5D-BC20F2B0B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E81AC-D821-48F6-9166-B3E63B5E4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A5DC7-A72C-482D-8685-33E9702A3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B6FE9-DE31-4DDB-93F7-5C07C5C5C7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5EBE0-693D-4182-90E4-A403C8524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AF67B-6598-42D0-8433-C39F5776A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952E4-EC17-4C06-ABA6-5498BE9F1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988CC-E435-4CBF-AA05-D3156E4B5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A3A9-28B2-452A-9F72-500DD0C44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3EACC-72BA-4C3E-890E-0694B2B62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F0E39-860D-49AF-8973-2F3FD8593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23255-ABDD-4BF5-8D74-C49B428A9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C02CE-CE85-40F1-9488-752242D6E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FB403-9D42-494B-A1AA-764759BC5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3A77F4-DF74-4206-9A80-712A25E953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6DC86-FDCC-42F9-BD81-2F15F9889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EF3B70-AF29-40C7-BD13-29AB16944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2C821C-67A3-48A5-9B77-D0668BFFF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6D703-3E53-4A12-A560-B98B3D4CB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E0E6-8253-46AD-80C6-7EE61060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857D6-2E6D-4AA0-98D1-92ACE2FDE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D19F9-31F4-48C0-9388-355C9B609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91299-B971-4AF4-920C-A8EE75A29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EC2B4-F892-49CE-B5D2-A12D9414A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00140-92D2-43C1-9252-BAE7CA49C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22A27-06EC-4F75-AA7E-8EBD2117E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4EF2D-5634-41DF-AF8F-9C184891C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A3CA5-AFAE-4C33-87D7-163977639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44FEC7-13AB-4333-B8BB-C855273FC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6C924-1019-4B93-9A9B-9369604064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160C6-2780-4C07-A1D2-9D6DB35B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0A90D-9BF2-432B-B515-39FD8390B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97FD63-5BFE-4341-9CD3-F39C65EC1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015E9-386C-4A99-A81F-AB8B610FD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8D225-85E9-45A3-9468-B8074880F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D98D7-A502-47A7-AC3C-269752F228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21310-8095-4F1F-8A9C-66E566EB4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E683A-D774-4981-937B-EB1742580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3E125-A098-4270-8C9D-FCFFBDE42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D23C1-8FD2-4ABC-8F5D-97D94C361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89A89-4842-4969-BC6A-2277A1A77F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458B-61F3-4FC9-A984-5A744148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E11FA3-173B-4D6A-983C-5D57BE806B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F7883-244B-4364-9472-8DC39E66A4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D7ED9-A591-41CB-8F47-80AB7F55E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2C7F11-9DD9-4E06-AF82-9B76EE1AA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5E83A-DA9B-44B5-8995-91C66D2AA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6D8EB-7901-4A49-BC73-607811D6A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4FFB4-DC60-4794-A234-C79245E92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544C5-5E46-4E09-AD61-170BBE41B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266A9-3FAD-48F4-BD7F-DC8BA730B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2739F-9322-4A2C-9BFD-17F40C5B9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E2DFB-9A1E-4D8E-BBAA-1E7F82D0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DA720-5673-49A1-9F4F-ED26A4C39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AA98B-6275-4850-AD75-0BEABC5535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E30AD9-7CF4-41C5-A75B-3516DB1CE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578FC9-8D82-4F1D-A68A-6701593577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6CF168-57FC-45FB-A8BD-0F5A5EA56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54CFF-DF28-4E7B-B429-C941F79B72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21D5E-63D2-4F1D-9967-13DE7AF62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294E37-5BA7-4B34-9729-12EEE79E34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29854-8674-4DFE-A092-5CC8C6DF3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56E73-30B3-47D2-B503-323620D19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43E1-5869-488E-9BD4-32895764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C86CA-E593-4C5A-BCF9-6FC021E61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71403-F650-4FDF-BBE4-0808D3BA8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16740B-E055-47FF-9735-C05FCA7BF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19DE27-A9FB-42A6-A05A-3E86F066DE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1F4A2E-3095-4CF0-AE79-CF160D7318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67CB4-2CB3-4CEE-BB8E-C6A5A402A6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FD27F-15C7-4EC1-AE79-EB781BA90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70283-A36D-4F2C-B82C-CB280A1CA8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798C83-D1DD-4089-B31F-589BF1F03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28D9D-7ACB-4369-A6D4-FE6F1AF18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7462-6E9A-4852-B5A7-84ADB38B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328F1-48C5-4820-999C-39F79B368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160DE-C8EB-432B-8FBD-F71770785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D05D8-3D16-4136-9351-D215D5CA1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60B72-6E16-494F-923D-CBABB1306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B847D-887B-47B0-8FDB-2D6F03C2C3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6B4BF2-5AD5-461C-A12F-D2DAE78CC8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3F0D50-DF6D-4036-9702-94DB941385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7910B0-C33B-4985-A636-3A77DB6E6B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02A22-12EC-4B88-9FC0-7BC123952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DF3675-41D0-4C4F-9CC2-588C07C7C8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F6E05-69FE-41C4-BE47-7476E5A40C2D}"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64745-A2FD-4880-86A7-F2024985A62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D6FB0-CE4A-4197-B2D8-7863FF611EB1}"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2F2CC-6B71-49C6-92CE-76AC8C051DF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D5D7D-2833-4AE1-B96C-B6DD16CFFC6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56CB8-E7EA-46CE-9387-7E78E55F585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69760-269F-44EA-9A82-F620F02CD063}"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122DA-B258-443F-939B-7DEA6D39630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B36C7-734A-46F9-A50D-176B5435EE14}"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8D148-DDD8-4B00-9E24-D38D04CA70B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788C6-6A82-49AF-8731-34C54148B14C}"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0B5C0-929E-43A4-803B-1D44E68B620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429F0-F666-40FB-AEA7-F6CCA0A238FF}"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F3D16-AB50-482F-9C3B-496ABAC13AB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93D2E-65B3-478E-81C4-4E8EA5F8130A}"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9575D-E07E-460D-8CEC-AD7D27AFE17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EDC80-0CF2-49FF-BD6D-C833CF6CE160}"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F6D2E-1579-4F88-86BC-122BB038B5A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3038C-712E-4035-96D9-6FE57752A48A}"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8C938-8730-4504-AB89-00B5E486DD6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5A06D-4CC7-46CB-A0D0-311D3A8A4737}"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6B9C7-3971-4BB2-8A14-C75819098D11}"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D15FD-1AE5-406D-8628-8955C7484A31}" type="datetime">
              <a:rPr b="0" lang="en-US" sz="1000" spc="-1" strike="noStrike">
                <a:solidFill>
                  <a:srgbClr val="898989"/>
                </a:solidFill>
                <a:latin typeface="Arial"/>
                <a:ea typeface="Arial"/>
              </a:rPr>
              <a:t>07/30/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21FFF-3E8C-4F54-A62D-C2069CF694D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6B8D5-D886-41D6-91C7-399C75C357F5}"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8D940-4A05-444B-819A-BC9E5A9574CC}"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