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4CA3063-A8FE-4A99-B534-5A98FD13B23C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0E3092F-E7F7-40BD-979A-7B0E60312653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:1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3000" y="0"/>
            <a:ext cx="6883560" cy="51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-360" y="5162040"/>
            <a:ext cx="701028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1E7A1EB-6E57-46E2-B797-D8B3BC787DF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8A0D56B-4128-4767-83B1-1689D65B859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6BC954A-ABDC-4174-AB4D-D8E0BD37C7C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2BFFC3E-891A-43A6-91A8-D32F2AD9488E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:1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F52CAA7-5B2F-4B47-A84C-DB02C54DAD6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142BBC6-5E8F-4446-AE8D-5298203F71A7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145E673-887E-4059-AB8B-F4F83B9F5CFC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:1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3D37788-D2E1-48E4-85B1-D112C261685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06C6F69-04A4-4EA2-865E-EC56DF59309A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0414F1F-2B2B-488C-9300-638C02D2BAC9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:1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162BFF4-D8A7-40C3-A951-C3FDAB53019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A36C627-F9F5-437E-B603-60FD697D7E7A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AB8E98D-6146-4AF4-8AF6-B53F03519BE1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:1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F7C4C2E-ED7D-4CB3-8DE5-3BB55D9061B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93181F2-3BDA-4C56-A7B0-1635725F98F8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ED346C9-AB54-4D34-A253-DA61CB6FC3F7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:1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288CFEB-5216-4CFC-B4D6-13F3723B36F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EA2F65A-D0D1-4304-9A70-A9FC8686617A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6F6ABD8-421D-4D69-A6C3-85DB17ABF8D1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:1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7010280" cy="5257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9449FE5-038A-403B-B4FE-A89AC964A7E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45B75F1-E59C-477E-9ED5-88E80F1901CC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D796059-218A-4342-89C6-FB91707ADFC4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:1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B8DEA7E-946F-49DA-9860-13DC4F80729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7F415B0-C2C4-4EA9-AD38-DEE68D936EF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6A8A5D0-832E-451A-B66E-F2171E3BF9B9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:1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B58-5376-43D7-9B6B-8CF248EF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8BB-6E21-4C18-A33F-9F2BFE3F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B1C-80CE-4EE8-B5C2-5FDA57CC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47D-6BE6-4185-9CCD-3C336F44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7A1-8C79-49F0-8157-49F7FE7F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846-62D3-40AE-BD90-11C799B2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AC6-9512-4050-AE00-B5E743A7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1BB-3EF4-4E16-B49C-3602286D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179-1C64-44D6-9A71-EE2046C4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503-3403-43C6-B934-B5149CB6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E36-73DF-4A66-931D-4FD09C17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6CC-DEE6-4883-AF7A-CDE5CBF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690480" indent="-233280">
              <a:spcBef>
                <a:spcPts val="1049"/>
              </a:spcBef>
              <a:buClr>
                <a:srgbClr val="66ff66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AF06-4E0C-4B24-8A2F-CFDFD78D863A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295280"/>
            <a:ext cx="3897360" cy="4230720"/>
          </a:xfrm>
          <a:custGeom>
            <a:avLst/>
            <a:gdLst/>
            <a:ahLst/>
            <a:rect l="l" t="t" r="r" b="b"/>
            <a:pathLst>
              <a:path w="549" h="595">
                <a:moveTo>
                  <a:pt x="354" y="250"/>
                </a:moveTo>
                <a:lnTo>
                  <a:pt x="322" y="247"/>
                </a:lnTo>
                <a:lnTo>
                  <a:pt x="322" y="416"/>
                </a:lnTo>
                <a:lnTo>
                  <a:pt x="273" y="426"/>
                </a:lnTo>
                <a:lnTo>
                  <a:pt x="273" y="244"/>
                </a:lnTo>
                <a:lnTo>
                  <a:pt x="234" y="237"/>
                </a:lnTo>
                <a:lnTo>
                  <a:pt x="234" y="172"/>
                </a:lnTo>
                <a:lnTo>
                  <a:pt x="354" y="192"/>
                </a:lnTo>
                <a:lnTo>
                  <a:pt x="354" y="250"/>
                </a:lnTo>
                <a:lnTo>
                  <a:pt x="354" y="250"/>
                </a:lnTo>
                <a:close/>
                <a:moveTo>
                  <a:pt x="448" y="396"/>
                </a:moveTo>
                <a:lnTo>
                  <a:pt x="419" y="400"/>
                </a:lnTo>
                <a:lnTo>
                  <a:pt x="416" y="377"/>
                </a:lnTo>
                <a:lnTo>
                  <a:pt x="387" y="380"/>
                </a:lnTo>
                <a:lnTo>
                  <a:pt x="383" y="406"/>
                </a:lnTo>
                <a:lnTo>
                  <a:pt x="348" y="413"/>
                </a:lnTo>
                <a:lnTo>
                  <a:pt x="383" y="198"/>
                </a:lnTo>
                <a:lnTo>
                  <a:pt x="419" y="205"/>
                </a:lnTo>
                <a:lnTo>
                  <a:pt x="448" y="396"/>
                </a:lnTo>
                <a:lnTo>
                  <a:pt x="448" y="396"/>
                </a:lnTo>
                <a:close/>
                <a:moveTo>
                  <a:pt x="409" y="335"/>
                </a:moveTo>
                <a:lnTo>
                  <a:pt x="403" y="266"/>
                </a:lnTo>
                <a:lnTo>
                  <a:pt x="400" y="266"/>
                </a:lnTo>
                <a:lnTo>
                  <a:pt x="393" y="335"/>
                </a:lnTo>
                <a:lnTo>
                  <a:pt x="409" y="335"/>
                </a:lnTo>
                <a:lnTo>
                  <a:pt x="409" y="335"/>
                </a:lnTo>
                <a:close/>
                <a:moveTo>
                  <a:pt x="250" y="595"/>
                </a:moveTo>
                <a:lnTo>
                  <a:pt x="279" y="592"/>
                </a:lnTo>
                <a:lnTo>
                  <a:pt x="309" y="588"/>
                </a:lnTo>
                <a:lnTo>
                  <a:pt x="338" y="582"/>
                </a:lnTo>
                <a:lnTo>
                  <a:pt x="367" y="572"/>
                </a:lnTo>
                <a:lnTo>
                  <a:pt x="393" y="559"/>
                </a:lnTo>
                <a:lnTo>
                  <a:pt x="416" y="543"/>
                </a:lnTo>
                <a:lnTo>
                  <a:pt x="439" y="527"/>
                </a:lnTo>
                <a:lnTo>
                  <a:pt x="461" y="507"/>
                </a:lnTo>
                <a:lnTo>
                  <a:pt x="481" y="488"/>
                </a:lnTo>
                <a:lnTo>
                  <a:pt x="497" y="465"/>
                </a:lnTo>
                <a:lnTo>
                  <a:pt x="513" y="439"/>
                </a:lnTo>
                <a:lnTo>
                  <a:pt x="526" y="413"/>
                </a:lnTo>
                <a:lnTo>
                  <a:pt x="536" y="387"/>
                </a:lnTo>
                <a:lnTo>
                  <a:pt x="543" y="357"/>
                </a:lnTo>
                <a:lnTo>
                  <a:pt x="549" y="328"/>
                </a:lnTo>
                <a:lnTo>
                  <a:pt x="549" y="296"/>
                </a:lnTo>
                <a:lnTo>
                  <a:pt x="549" y="266"/>
                </a:lnTo>
                <a:lnTo>
                  <a:pt x="543" y="237"/>
                </a:lnTo>
                <a:lnTo>
                  <a:pt x="536" y="208"/>
                </a:lnTo>
                <a:lnTo>
                  <a:pt x="526" y="182"/>
                </a:lnTo>
                <a:lnTo>
                  <a:pt x="513" y="156"/>
                </a:lnTo>
                <a:lnTo>
                  <a:pt x="497" y="130"/>
                </a:lnTo>
                <a:lnTo>
                  <a:pt x="481" y="107"/>
                </a:lnTo>
                <a:lnTo>
                  <a:pt x="461" y="87"/>
                </a:lnTo>
                <a:lnTo>
                  <a:pt x="439" y="68"/>
                </a:lnTo>
                <a:lnTo>
                  <a:pt x="416" y="52"/>
                </a:lnTo>
                <a:lnTo>
                  <a:pt x="393" y="35"/>
                </a:lnTo>
                <a:lnTo>
                  <a:pt x="367" y="22"/>
                </a:lnTo>
                <a:lnTo>
                  <a:pt x="338" y="13"/>
                </a:lnTo>
                <a:lnTo>
                  <a:pt x="309" y="6"/>
                </a:lnTo>
                <a:lnTo>
                  <a:pt x="279" y="3"/>
                </a:lnTo>
                <a:lnTo>
                  <a:pt x="250" y="0"/>
                </a:lnTo>
                <a:lnTo>
                  <a:pt x="231" y="0"/>
                </a:lnTo>
                <a:lnTo>
                  <a:pt x="211" y="3"/>
                </a:lnTo>
                <a:lnTo>
                  <a:pt x="192" y="6"/>
                </a:lnTo>
                <a:lnTo>
                  <a:pt x="175" y="9"/>
                </a:lnTo>
                <a:lnTo>
                  <a:pt x="156" y="13"/>
                </a:lnTo>
                <a:lnTo>
                  <a:pt x="140" y="19"/>
                </a:lnTo>
                <a:lnTo>
                  <a:pt x="123" y="29"/>
                </a:lnTo>
                <a:lnTo>
                  <a:pt x="107" y="35"/>
                </a:lnTo>
                <a:lnTo>
                  <a:pt x="91" y="45"/>
                </a:lnTo>
                <a:lnTo>
                  <a:pt x="74" y="55"/>
                </a:lnTo>
                <a:lnTo>
                  <a:pt x="61" y="65"/>
                </a:lnTo>
                <a:lnTo>
                  <a:pt x="45" y="78"/>
                </a:lnTo>
                <a:lnTo>
                  <a:pt x="35" y="91"/>
                </a:lnTo>
                <a:lnTo>
                  <a:pt x="22" y="104"/>
                </a:lnTo>
                <a:lnTo>
                  <a:pt x="9" y="117"/>
                </a:lnTo>
                <a:lnTo>
                  <a:pt x="0" y="133"/>
                </a:lnTo>
                <a:lnTo>
                  <a:pt x="84" y="146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33" y="156"/>
                </a:lnTo>
                <a:lnTo>
                  <a:pt x="218" y="169"/>
                </a:lnTo>
                <a:lnTo>
                  <a:pt x="218" y="435"/>
                </a:lnTo>
                <a:lnTo>
                  <a:pt x="162" y="445"/>
                </a:lnTo>
                <a:lnTo>
                  <a:pt x="162" y="328"/>
                </a:lnTo>
                <a:lnTo>
                  <a:pt x="162" y="328"/>
                </a:lnTo>
                <a:lnTo>
                  <a:pt x="162" y="322"/>
                </a:lnTo>
                <a:lnTo>
                  <a:pt x="166" y="315"/>
                </a:lnTo>
                <a:lnTo>
                  <a:pt x="166" y="305"/>
                </a:lnTo>
                <a:lnTo>
                  <a:pt x="166" y="296"/>
                </a:lnTo>
                <a:lnTo>
                  <a:pt x="166" y="286"/>
                </a:lnTo>
                <a:lnTo>
                  <a:pt x="166" y="276"/>
                </a:lnTo>
                <a:lnTo>
                  <a:pt x="166" y="273"/>
                </a:lnTo>
                <a:lnTo>
                  <a:pt x="166" y="273"/>
                </a:lnTo>
                <a:lnTo>
                  <a:pt x="162" y="273"/>
                </a:lnTo>
                <a:lnTo>
                  <a:pt x="162" y="273"/>
                </a:lnTo>
                <a:lnTo>
                  <a:pt x="162" y="273"/>
                </a:lnTo>
                <a:lnTo>
                  <a:pt x="130" y="449"/>
                </a:lnTo>
                <a:lnTo>
                  <a:pt x="78" y="458"/>
                </a:lnTo>
                <a:lnTo>
                  <a:pt x="39" y="266"/>
                </a:lnTo>
                <a:lnTo>
                  <a:pt x="39" y="266"/>
                </a:lnTo>
                <a:lnTo>
                  <a:pt x="39" y="273"/>
                </a:lnTo>
                <a:lnTo>
                  <a:pt x="39" y="283"/>
                </a:lnTo>
                <a:lnTo>
                  <a:pt x="39" y="292"/>
                </a:lnTo>
                <a:lnTo>
                  <a:pt x="39" y="305"/>
                </a:lnTo>
                <a:lnTo>
                  <a:pt x="39" y="315"/>
                </a:lnTo>
                <a:lnTo>
                  <a:pt x="39" y="325"/>
                </a:lnTo>
                <a:lnTo>
                  <a:pt x="42" y="331"/>
                </a:lnTo>
                <a:lnTo>
                  <a:pt x="42" y="335"/>
                </a:lnTo>
                <a:lnTo>
                  <a:pt x="42" y="465"/>
                </a:lnTo>
                <a:lnTo>
                  <a:pt x="6" y="471"/>
                </a:lnTo>
                <a:lnTo>
                  <a:pt x="16" y="484"/>
                </a:lnTo>
                <a:lnTo>
                  <a:pt x="29" y="497"/>
                </a:lnTo>
                <a:lnTo>
                  <a:pt x="42" y="510"/>
                </a:lnTo>
                <a:lnTo>
                  <a:pt x="52" y="523"/>
                </a:lnTo>
                <a:lnTo>
                  <a:pt x="68" y="533"/>
                </a:lnTo>
                <a:lnTo>
                  <a:pt x="81" y="543"/>
                </a:lnTo>
                <a:lnTo>
                  <a:pt x="97" y="553"/>
                </a:lnTo>
                <a:lnTo>
                  <a:pt x="110" y="559"/>
                </a:lnTo>
                <a:lnTo>
                  <a:pt x="127" y="569"/>
                </a:lnTo>
                <a:lnTo>
                  <a:pt x="143" y="575"/>
                </a:lnTo>
                <a:lnTo>
                  <a:pt x="159" y="582"/>
                </a:lnTo>
                <a:lnTo>
                  <a:pt x="179" y="585"/>
                </a:lnTo>
                <a:lnTo>
                  <a:pt x="195" y="588"/>
                </a:lnTo>
                <a:lnTo>
                  <a:pt x="211" y="592"/>
                </a:lnTo>
                <a:lnTo>
                  <a:pt x="231" y="595"/>
                </a:lnTo>
                <a:lnTo>
                  <a:pt x="250" y="595"/>
                </a:lnTo>
                <a:lnTo>
                  <a:pt x="250" y="595"/>
                </a:lnTo>
                <a:close/>
              </a:path>
            </a:pathLst>
          </a:custGeom>
          <a:solidFill>
            <a:srgbClr val="0000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46080" y="1998720"/>
            <a:ext cx="72835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NYCT Subway Car Program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ogress Update to CPOC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chael P. Wetherell, P.E.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Vice President and Chief Mechanical Officer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epartment of Subways</a:t>
            </a:r>
            <a:br>
              <a:rPr sz="16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vember 26, 2012</a:t>
            </a:r>
            <a:endParaRPr b="1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0" y="6216480"/>
            <a:ext cx="28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NYCT PC Bullet"/>
              </a:rPr>
              <a:t>,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89080" y="874800"/>
          <a:ext cx="8291520" cy="30744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new ‘A’ Division cars + 380 converted R142A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(46) 11-car trains for Flushing CBTC / </a:t>
                      </a: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NYCT PC Bullet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ne Extens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/30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and Conditional Acceptance Completion: 2/28/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6.5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$497.2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3.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90960" y="56340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4040" y="4413240"/>
            <a:ext cx="8296560" cy="229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ingle C-car scheduled to be delivered early November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October 18, 2012: 70 cars in production at Kawasaki’s US faciliti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 the Base Order are 90% complete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go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of Base Contract trains by end of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of RTO personnel for Qualification Test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Unit Qualification Testing on NYCT property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080" y="410220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AF1-8F49-4FC0-927C-65C39863D758}" type="slidenum">
              <a:t>2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3720" y="717480"/>
            <a:ext cx="316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R188 11-Car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Train Con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814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16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is the only NYCT subway line that runs 11-car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440" y="1808280"/>
            <a:ext cx="8709120" cy="18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FFC-8196-4F58-AB1A-2447B62D7BF7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6120" y="590400"/>
            <a:ext cx="8620200" cy="5353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Delivery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267160"/>
            <a:ext cx="843912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Order deliveries complete by Dec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ew Option train scheduled to be delivered Ma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ht new trains forecasted to be conditionally accepted in time for opening of </a:t>
            </a:r>
            <a:r>
              <a:rPr b="0" lang="en-US" sz="14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e 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on of delivery of all new and converted trains scheduled for 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ushing Line CBTC forecasted completion is Novem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00200" y="984240"/>
          <a:ext cx="579744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84240"/>
                    <a:ext cx="5797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822-07A4-4720-B172-570E3A157FDD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5840" y="1092240"/>
          <a:ext cx="8545320" cy="3143160"/>
        </p:xfrm>
        <a:graphic>
          <a:graphicData uri="http://schemas.openxmlformats.org/drawingml/2006/table">
            <a:tbl>
              <a:tblPr/>
              <a:tblGrid>
                <a:gridCol w="857160"/>
                <a:gridCol w="3657600"/>
                <a:gridCol w="2057400"/>
                <a:gridCol w="1973160"/>
              </a:tblGrid>
              <a:tr h="3787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069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new single C-car for placement within the 10 R142A conversion car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two new train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Order Conditional Accep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 Order Car Delivery Comple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60440" indent="-46044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Activity an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63520" y="480060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0920" y="5099040"/>
            <a:ext cx="616428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impacts on Cost and/or Construction/Beneficial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llow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that can lead to cost increase or schedule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ar-term impact on cost or schedu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986-F0DC-424F-84C5-EA37CF7AC1D4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89080" y="1092240"/>
          <a:ext cx="8291520" cy="31986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4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60-foot ‘B’ Division cars (design based on R160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provide 36½ tr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5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: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4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test train: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12/22/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duction unit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7/27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Completion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0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5.6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4040" y="4797000"/>
            <a:ext cx="8267760" cy="19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ded to Bombardier Transit Corporation on June 4, 201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Master Program Schedul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Technical Specification Review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Process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080" y="448632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79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299-9D90-4121-A5E2-40431EE448B0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9080" y="1092240"/>
          <a:ext cx="8291520" cy="27972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2680" indent="-1126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2 60-foot ‘B’ Div cars built by ALSKAW replaces older 60-foot 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ars delivered May 6,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lose-Out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490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3.0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49.2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42.3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4647960"/>
            <a:ext cx="82677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Month MDBF: 645,207 miles (September 2012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ars off of warranty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N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M</a:t>
            </a:r>
            <a:r>
              <a:rPr b="0" lang="en-US" sz="1600" spc="-1" strike="noStrike">
                <a:solidFill>
                  <a:srgbClr val="bb8d4c"/>
                </a:solidFill>
                <a:latin typeface="NYCT PC Bullet"/>
              </a:rPr>
              <a:t>JZ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Q</a:t>
            </a:r>
            <a:r>
              <a:rPr b="0" lang="en-US" sz="1600" spc="-1" strike="noStrike">
                <a:solidFill>
                  <a:srgbClr val="285091"/>
                </a:solidFill>
                <a:latin typeface="NYCT PC Bullet"/>
              </a:rPr>
              <a:t>E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F</a:t>
            </a:r>
            <a:r>
              <a:rPr b="0" lang="en-US" sz="1600" spc="-1" strike="noStrike">
                <a:solidFill>
                  <a:srgbClr val="808183"/>
                </a:solidFill>
                <a:latin typeface="NYCT PC Bullet"/>
              </a:rPr>
              <a:t>L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field modifications and deliverabl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out Forecast for June 201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080" y="4191120"/>
            <a:ext cx="137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60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ED1-2DD9-42D7-BD0E-4BEA0E9A6D38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89080" y="1095480"/>
          <a:ext cx="8291520" cy="4962240"/>
        </p:xfrm>
        <a:graphic>
          <a:graphicData uri="http://schemas.openxmlformats.org/drawingml/2006/table">
            <a:tbl>
              <a:tblPr/>
              <a:tblGrid>
                <a:gridCol w="1387440"/>
                <a:gridCol w="6904080"/>
              </a:tblGrid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211 ‘B’ Division cars to replace 752 R46 c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fleet growth cars (current forecast – 84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ars for SIR fleet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design to address NYCT’s 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ster Plan approved in December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Award of Technical Consultant (Design Ph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Negotiation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MTA Board Approval: Nov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 Contract: Dec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 Purchase Award Proposed for 2015 – 2019 Capital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211 Future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1EE-5535-49D9-9A21-FD0473F0B61F}" type="slidenum">
              <a:t>8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04:55Z</dcterms:created>
  <dc:creator/>
  <dc:description>Change from v8.2:
Use Sep 2012 R160 MDBF
R188 Base Cond Accept from Jun to May 2013</dc:description>
  <dc:language>en-US</dc:language>
  <cp:lastModifiedBy>NYCT</cp:lastModifiedBy>
  <cp:lastPrinted>2003-02-07T16:33:35Z</cp:lastPrinted>
  <dcterms:modified xsi:type="dcterms:W3CDTF">2012-11-26T22:33:07Z</dcterms:modified>
  <cp:revision>2247</cp:revision>
  <dc:subject/>
  <dc:title>Subway Car Program Update</dc:title>
</cp:coreProperties>
</file>