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F41167-8C16-46E6-9C3E-7A9794D18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2FCB79-FF4D-41D0-96AB-A0B0D9392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57A1FB-D2D2-40AB-B99C-1AB0875D8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9EB008-5002-447F-A16D-998190D08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B34644-DD9E-45D5-BA9A-9D07FE21B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1C6C9E-682E-4ACE-89F1-F5065E329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B9ABAB-F1E4-4587-A75B-4835B764B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8196F1-8558-4DFE-8BD1-11CDBAD20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DF3C18-D1BB-4134-873D-2B9A3C46D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78CB32-90F7-4F1A-8380-3F7F4DE11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18347E-5D75-4777-8DD5-F0BFF1B90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RR currently leads discussions with Amtrak on balancing the risks to LIRR service with the needs of the Total Track Replacement project; in considering impacts on LIRR service, LIRR is best suited to make those judgments and should take the lead role in identifying mitigations to project delays that can appropriately consider trade-offs between customer service an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MTA Cap Constr copy"/>
          <p:cNvPicPr/>
          <p:nvPr/>
        </p:nvPicPr>
        <p:blipFill>
          <a:blip r:embed="rId3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MTA Cap Constr copy"/>
          <p:cNvPicPr/>
          <p:nvPr/>
        </p:nvPicPr>
        <p:blipFill>
          <a:blip r:embed="rId4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4270320" y="64641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B980-617A-400C-B02E-CA9E9D9063B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7594560" y="64659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6,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34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was directed to report their confidence in the project’s mitigation proposed in June.  In response, the IEC has evaluated the viability of these mitigations with respect to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view was undertaken before the current scope of the Amtrak East River Tunnel work was fully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is continuing to evaluate the impact of the East River Tunnel work and mitigation strategies as they are prepared by 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088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EC previously reported a delay to the Revenue Service Date of September 2016, absent mitigations,  du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or performance of Manhattan contr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ign approval and construction delays in Haro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issues for systems work in new ESA tu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TACC proposed four out-of-the-box actions to mitigate del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ver Precast Panels for GCT Caverns through Manhatt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tion of Operational Readiness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-Purchasing of Systems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to B/C Approach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7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itigations reviewed by the IEC do not bring the Revenue Service Date back to September 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ever, two mitigations offer 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nging the precast panels through Manhattan will improve access to the new ESA tunnels by reducing interference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y reduction of the operational readiness results in time  savings and will improve a revised Revenue Servic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costs to the project resulting from these mitigations are yet to be determ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delays were identified during the review of the proposed out-of-the-box mitigations that will also need to be mitigated during the rebaselining.  These delays, which are still under discussion with ESA,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and construction duration issues for the remaining Harold third party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durations for structural and systems finish-out work in Manhattan cav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EC 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clude Amtrak in rebaselining effort, which considers current delays, unmitigated risks and the East River Tunnel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s part of the rebaselining, advance Westbound Bypass and Eastbound Reroute work to comply with high-speed rail grant requir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mprove the prospect of achieving the goal of a revised FFGA Revenue Service Date b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rming a partnership between Amtrak and MTA to create a vehicle to incentivize Amtr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engthening LIRR’s position to lead the coordination in Harold and find a balance between customer service and co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0:32:45Z</dcterms:created>
  <dc:creator>NYCT</dc:creator>
  <dc:description/>
  <dc:language>en-US</dc:language>
  <cp:lastModifiedBy>Michael Jew-Geralds</cp:lastModifiedBy>
  <cp:lastPrinted>2011-09-26T12:27:38Z</cp:lastPrinted>
  <dcterms:modified xsi:type="dcterms:W3CDTF">2011-09-26T21:13:17Z</dcterms:modified>
  <cp:revision>1697</cp:revision>
  <dc:subject/>
  <dc:title>Slide 1</dc:title>
</cp:coreProperties>
</file>